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5267-832A-4922-996A-F1602CC8D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0A25-5A71-4043-B8CB-AABF1C0A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8698-97A1-48BF-AFF6-ECFD32F32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AC58-4831-4C1D-A17A-D71EFF3DA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5B94-6D8A-449C-ABA5-4D0CCE4E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9F2B-1AF8-4C44-8B2B-9A2FBFDC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6AB3-9A41-4FAD-A0F7-F43E923F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B9F1-53F9-46B6-972F-91E1E0C1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DB56-1DCE-4876-8F1F-71AD9B80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A934-9255-42E2-A6D3-EE669B51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B465-6540-4821-821A-B2D72667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CD50-8B2D-4C1A-9798-C73C7C63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BC541A9-E851-4175-92D1-1C6ECA2F7F6B}" type="slidenum">
              <a:rPr b="0" lang="en-GB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2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857160" y="2357280"/>
            <a:ext cx="51433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7200" spc="-1" strike="noStrike">
                <a:solidFill>
                  <a:srgbClr val="ffffff"/>
                </a:solidFill>
                <a:latin typeface="Calibri"/>
              </a:rPr>
              <a:t>الأصغاء للصمت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4" name="TextBox 3"/>
          <p:cNvSpPr/>
          <p:nvPr/>
        </p:nvSpPr>
        <p:spPr>
          <a:xfrm>
            <a:off x="0" y="5286240"/>
            <a:ext cx="9143640" cy="1918440"/>
          </a:xfrm>
          <a:prstGeom prst="rect">
            <a:avLst/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400" spc="-1" strike="noStrike">
                <a:solidFill>
                  <a:srgbClr val="ffffff"/>
                </a:solidFill>
                <a:latin typeface="Calibri"/>
              </a:rPr>
              <a:t>في كل لحظة أسمع ألآلاف من الأصوات الضجيج من حولي , فأنا أستمع في نفس الوقت الى الأشخاص وهم يتحادثون, رنين الهاتف وضحكات الأطفال... حتى انني في بعض الأحيان أضطر الى الصراخ كي أجعل الناس يسمعونني ! ولكن بالرغم من هذا فأنا أحب هذا الضجيج لأنه مفرح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6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8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0" y="5072040"/>
            <a:ext cx="9143640" cy="2649240"/>
          </a:xfrm>
          <a:prstGeom prst="rect">
            <a:avLst/>
          </a:prstGeom>
          <a:gradFill rotWithShape="0">
            <a:gsLst>
              <a:gs pos="0">
                <a:srgbClr val="00af4f"/>
              </a:gs>
              <a:gs pos="100000">
                <a:srgbClr val="00682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ffffff"/>
                </a:solidFill>
                <a:latin typeface="Calibri"/>
              </a:rPr>
              <a:t>وعندما يهدأ الضجيج , أشعر بالهدوء وكأن الفراغ قد عم من حولي... ولكن اذا ما أنصت بشكل جيد , فأنا أبدأ بسماع: ضجة مكتومة أحبها جدا. صوت أمي وهي تدندن أغنيتها المفضلة, طفل يثغو وهو ينتظر وجبته. ان الصمت غالبا ما يكون مملوءا بضجيج خافت للحياة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10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12.jpg"/>
          <p:cNvPicPr/>
          <p:nvPr/>
        </p:nvPicPr>
        <p:blipFill>
          <a:blip r:embed="rId1"/>
          <a:stretch/>
        </p:blipFill>
        <p:spPr>
          <a:xfrm>
            <a:off x="0" y="-19800"/>
            <a:ext cx="9143640" cy="6877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0" y="5072040"/>
            <a:ext cx="9143640" cy="2649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ffffff"/>
                </a:solidFill>
                <a:latin typeface="Calibri"/>
              </a:rPr>
              <a:t>عندما ينخفض ويهدأ كل شيء حتى الأصوات الخافتة, عندما أستمع الى صمت مطبق وأظن بأن كل شيء قد نام ... ولكن هذه فكرة خاطئة , فاذا أنصت جيدا وشنفت اذاني فاني أسمع ضجة خفيفة في داخلي! صوت الهواء الذي أتنشق... قلبي الذي يخفق داخل صدري... هذا النوع من الضجيج يبقى دائما معي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1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16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3" name="Flowchart: Punched Tape 4"/>
          <p:cNvSpPr/>
          <p:nvPr/>
        </p:nvSpPr>
        <p:spPr>
          <a:xfrm>
            <a:off x="0" y="4857840"/>
            <a:ext cx="9143640" cy="1999800"/>
          </a:xfrm>
          <a:prstGeom prst="flowChartPunchedTape">
            <a:avLst/>
          </a:prstGeom>
          <a:solidFill>
            <a:srgbClr val="ff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r" rtl="1">
              <a:lnSpc>
                <a:spcPct val="100000"/>
              </a:lnSpc>
            </a:pPr>
            <a:r>
              <a:rPr b="1" lang="ar-SY" sz="3200" spc="-1" strike="noStrike">
                <a:solidFill>
                  <a:srgbClr val="ffffff"/>
                </a:solidFill>
                <a:latin typeface="Calibri"/>
              </a:rPr>
              <a:t>الآن وأنا أتمتع بهذا الصمت... أقف أمامك يا رب ... فأنت لا تصنع أي ضجة ... أنت لا تصدر أي صوت... وأنت تأتي الي بصمت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  <Words>189</Words>
  <Paragraphs>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20:12:15Z</dcterms:created>
  <dc:creator>Computer</dc:creator>
  <dc:description/>
  <dc:language>en-US</dc:language>
  <cp:lastModifiedBy>Computer</cp:lastModifiedBy>
  <dcterms:modified xsi:type="dcterms:W3CDTF">2013-05-04T01:13:11Z</dcterms:modified>
  <cp:revision>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8</vt:r8>
  </property>
</Properties>
</file>